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69B-1BFE-477F-A82B-FB57C04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2F7-4D5F-4624-A2C2-ECF3170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D5D-D623-425E-A2B8-4E6BF4AE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063-3B99-4501-846C-E5D87C46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BB6A-3054-4BF7-9726-B049177F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8DF-22E3-4147-A888-C07E5C3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43C1-96D3-4F48-B729-94D0FA6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AA0F-E62D-47B0-BE36-18B37E33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9769-E0DC-43F3-8672-AA6578CF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D49B-BABA-4456-B4E5-EB25E632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38FB-708C-4281-8600-71AE837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818-586F-48AE-B7AC-8429CB40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50E7-AC49-4A89-8056-0E62E3C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EF0-6400-4763-93AA-EA42C78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91F-AA2B-48EF-ADB3-5B98531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948-57EF-4748-AD1F-96386F36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524-6784-4A0D-AC9E-F3E20906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53F-EB9C-4F2E-91B6-5114A29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36D-0515-4011-94C9-5034B710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BEC-C1F3-45D7-ABFE-A7576445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8FC-503B-4B4D-916C-9EF5BB1E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12A-0948-4B2F-9661-A7FAB12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0E5-134C-4562-9100-C845B0D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92D-B8B9-446A-965C-F807BB0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F349-9B26-430D-B955-8BCED7226B1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BC3-FC86-4764-A143-21AFC785200D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IAT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ROSTOPADŁOŚCIAN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WSTAWANIE SIAT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997920"/>
            <a:ext cx="38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cinanie prostopadłościa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46280" y="1673280"/>
          <a:ext cx="147456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1673280"/>
                    <a:ext cx="147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67000" y="1494000"/>
          <a:ext cx="147168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7000" y="1494000"/>
                    <a:ext cx="147168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1640" y="1538280"/>
          <a:ext cx="1900440" cy="17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41640" y="1538280"/>
                    <a:ext cx="190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92720" y="1538280"/>
          <a:ext cx="2303640" cy="17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92720" y="1538280"/>
                    <a:ext cx="23036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971640" y="34725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 rozcięciu prostopadłościanu otrzymujemy jego siat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37000" y="4014720"/>
          <a:ext cx="3778200" cy="204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7000" y="4014720"/>
                    <a:ext cx="37782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I PROSTOPADŁO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15375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atka prostopadłościanu może mieć różne kształ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raz 232" descr=""/>
          <p:cNvPicPr/>
          <p:nvPr/>
        </p:nvPicPr>
        <p:blipFill>
          <a:blip r:embed="rId1"/>
          <a:stretch/>
        </p:blipFill>
        <p:spPr>
          <a:xfrm>
            <a:off x="971640" y="2438280"/>
            <a:ext cx="78310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IATKA SZEŚCI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907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97360" y="2754360"/>
          <a:ext cx="943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754360"/>
                    <a:ext cx="943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85920" y="1042920"/>
          <a:ext cx="2924280" cy="22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1042920"/>
                    <a:ext cx="29242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276640" y="4284720"/>
          <a:ext cx="292392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6640" y="4284720"/>
                    <a:ext cx="2923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272360" y="1133640"/>
          <a:ext cx="1484280" cy="36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72360" y="1133640"/>
                    <a:ext cx="14842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6058080" y="2259000"/>
            <a:ext cx="1258560" cy="76536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85920" y="3968640"/>
            <a:ext cx="855720" cy="72072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266640" y="2979720"/>
            <a:ext cx="1305000" cy="449280"/>
          </a:xfrm>
          <a:prstGeom prst="line">
            <a:avLst/>
          </a:prstGeom>
          <a:ln w="4428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0:57:22Z</dcterms:modified>
  <cp:revision>89</cp:revision>
  <dc:subject/>
  <dc:title>Slajd 1</dc:title>
</cp:coreProperties>
</file>